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87188-09BD-48DE-8146-D6EDD7805B5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ette présentation PowerPoint ne comporte pas d’animation personnalisée, le formateur pourra ainsi en ajouter à sa conven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Déroulement de la séqu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es documents pourront être distribués 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à la fin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e la séquence 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 quoi servent les dénombrements d’oiseaux d’eau ? - Principaux éléments : 1 page - Doc S4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nctionnement d’un réseau de suivi des oiseaux d’eau : 1 page - Doc S4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es documents sont disponibles à la fin du document : HECKER N., 2012. </a:t>
            </a:r>
            <a:r>
              <a:rPr b="0" i="1" lang="fr-FR" sz="1200" spc="-1" strike="noStrike">
                <a:solidFill>
                  <a:srgbClr val="000000"/>
                </a:solidFill>
                <a:latin typeface="Calibri"/>
              </a:rPr>
              <a:t>Identification et comptage des oiseaux d’eau en Afrique – Des outils pour le formateur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. ONCFS-Hirundo-FT2E. F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681B8-BB9C-48DC-BEE1-41B5896F15B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</a:rPr>
              <a:t>Le formateur pourra présenter ces documents et liens utiles ainsi que des documents relatifs à la région concerné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</a:rPr>
              <a:t>Rapports nationaux des résultats des dénombrements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</a:rPr>
              <a:t>Rapports et newsletters des Dénombrements d’Oiseaux d’Eau publiés par Wetlands International </a:t>
            </a:r>
            <a:r>
              <a:rPr b="0" lang="fr-FR" sz="1100" spc="-1" strike="noStrike" u="sng">
                <a:solidFill>
                  <a:srgbClr val="000000"/>
                </a:solidFill>
                <a:uFillTx/>
                <a:latin typeface="Calibri"/>
              </a:rPr>
              <a:t>www.wetlands.org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Calibri"/>
              </a:rPr>
              <a:t>An Atlas of Wader Populations in Africa and Western Eurasia. 2009. Delany S., Scott D., Dodman T. &amp; Stroud D. (eds).. </a:t>
            </a:r>
            <a:r>
              <a:rPr b="0" i="1" lang="fr-FR" sz="1100" spc="-1" strike="noStrike">
                <a:solidFill>
                  <a:srgbClr val="000000"/>
                </a:solidFill>
                <a:latin typeface="Calibri"/>
              </a:rPr>
              <a:t>Wetlands International – Wader Study Group. Wageningen, The Netherlands. 524p.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</a:rPr>
              <a:t>Compilation des connaissances actuelles sur les effectifs, la distribution et les mouvements des limicoles dans la région couverte par l’African-Eurasian Migratory Waterbird Agreement (</a:t>
            </a:r>
            <a:r>
              <a:rPr b="0" lang="fr-FR" sz="1100" spc="-1" strike="noStrike" u="sng">
                <a:solidFill>
                  <a:srgbClr val="000000"/>
                </a:solidFill>
                <a:uFillTx/>
                <a:latin typeface="Calibri"/>
              </a:rPr>
              <a:t>AEWA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</a:rPr>
              <a:t>).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lus d’informations sur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</a:rPr>
              <a:t>www.wetlands.org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Calibri"/>
              </a:rPr>
              <a:t>Waterbird Population Estimates. Simon Delany and Derek Scott, 2006 Fourth edition. </a:t>
            </a:r>
            <a:r>
              <a:rPr b="0" i="1" lang="fr-FR" sz="1100" spc="-1" strike="noStrike">
                <a:solidFill>
                  <a:srgbClr val="000000"/>
                </a:solidFill>
                <a:latin typeface="Calibri"/>
              </a:rPr>
              <a:t>Wetlands International Publ. Wageningen, The Netherlands.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</a:rPr>
              <a:t>tailles et tendances des populations d’oiseaux d’eau du monde (analyse issue des résultats des dénombrements d’oiseaux d’eau internationaux).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éléchargeable sur :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</a:rPr>
              <a:t>Waterbird Population Estimates, Fourth edition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100" spc="-1" strike="noStrike">
                <a:solidFill>
                  <a:srgbClr val="000000"/>
                </a:solidFill>
                <a:latin typeface="Calibri"/>
              </a:rPr>
              <a:t>Wings over Wetlands : </a:t>
            </a:r>
            <a:r>
              <a:rPr b="0" lang="fr-FR" sz="1100" spc="-1" strike="noStrike" u="sng">
                <a:solidFill>
                  <a:srgbClr val="000000"/>
                </a:solidFill>
                <a:uFillTx/>
                <a:latin typeface="Calibri"/>
              </a:rPr>
              <a:t>http://wow.wetlands.org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100" spc="-1" strike="noStrike">
                <a:solidFill>
                  <a:srgbClr val="000000"/>
                </a:solidFill>
                <a:latin typeface="Calibri"/>
              </a:rPr>
              <a:t>Les Concepts de Voies de Migration pour la conservation et l’utilisation rationnelle des oiseaux d’eau et des zones humides : Kit de formation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- Critical Site Network Too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</a:rPr>
              <a:t>Série de publications techniques de l’AEWA : </a:t>
            </a:r>
            <a:r>
              <a:rPr b="0" lang="fr-FR" sz="1100" spc="-1" strike="noStrike" u="sng">
                <a:solidFill>
                  <a:srgbClr val="000000"/>
                </a:solidFill>
                <a:uFillTx/>
                <a:latin typeface="Calibri"/>
              </a:rPr>
              <a:t>http://www.unep-aewa.org/publications/technical_series.ht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</a:rPr>
              <a:t>Publications de la convention de Ramsar : </a:t>
            </a:r>
            <a:r>
              <a:rPr b="0" lang="fr-FR" sz="1100" spc="-1" strike="noStrike" u="sng">
                <a:solidFill>
                  <a:srgbClr val="000000"/>
                </a:solidFill>
                <a:uFillTx/>
                <a:latin typeface="Calibri"/>
              </a:rPr>
              <a:t>www.ramsar.or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29EC5-025B-4590-9C42-F3E8063A282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Exercice en salle :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eprésentation schématique des réseau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Calibri"/>
              </a:rPr>
              <a:t>Déroulement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e document Doc S4.2 « Fonctionnement d’un réseau de suivi des oiseaux d’eau » sera distribué à chaque stagiaire 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en début d’exercice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ous les stagiaires participeront à une discussion sur les points suivant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e 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rôle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de chaque personne (compteurs, coordinateurs nationaux et internationaux)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es 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résultats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à chacun des niveaux, leur diffusion, leur utilisation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es 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liens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entre chaque niveau (flèches), l’importance de chacun d’eu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Calibri"/>
              </a:rPr>
              <a:t>Rôle du formateur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iriger la discussion et veiller à l’expression de chacun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aire le lien avec les résultats de l’exercice précéd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DDCA1-CFE5-463F-8B17-E17B3B43387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484280" y="755640"/>
            <a:ext cx="4110120" cy="30830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549360" y="4284360"/>
            <a:ext cx="5975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e formateur présentera le déroulement de l’apprentissage des techniques de dénombre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6726A-DE2C-4611-8430-A8EE81A46F5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28F0E-2CF8-4D00-8566-9AB3F4A3E4A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’ensemble de ce document (texte/photographies/illustrations) est publié sous licence </a:t>
            </a:r>
            <a:r>
              <a:rPr b="0" i="1" lang="fr-FR" sz="1200" spc="-1" strike="noStrike">
                <a:solidFill>
                  <a:srgbClr val="000000"/>
                </a:solidFill>
                <a:latin typeface="Calibri"/>
              </a:rPr>
              <a:t>Creative Commons CC BY-NC-SA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es utilisateurs sont autorisés à reproduire, adapter distribuer et communiquer la publication à des fins non commerciales, en citant les noms des auteurs, et en diffusant les produits issus de cette publication sous une licence identique ou similaire à celle-c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es outils ont été développés d’après la Mallette pédagogique : HECKER, N. 2000. </a:t>
            </a:r>
            <a:r>
              <a:rPr b="0" i="1" lang="fr-FR" sz="1200" spc="-1" strike="noStrike">
                <a:solidFill>
                  <a:srgbClr val="000000"/>
                </a:solidFill>
                <a:latin typeface="Calibri"/>
              </a:rPr>
              <a:t>Formation pour le suivi des populations d’oiseaux d’eau en Afrique sub-saharienne.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ONCFS - Tour du Valat, Fr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E348F-2EF2-4E10-BA10-9824BE18CC5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a séquence « Pourquoi dénombrer les oiseaux » est composée de différentes types de diapositiv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nd blanc : explications techniques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nd dégradé bleu / jaune : exercices en salle, certains pouvant également être réalisés sur le terra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es noms français, anglais et latins des espèces illustrées sont indiqués dans la partie </a:t>
            </a:r>
            <a:r>
              <a:rPr b="0" i="1" lang="fr-FR" sz="1200" spc="-1" strike="noStrike">
                <a:solidFill>
                  <a:srgbClr val="000000"/>
                </a:solidFill>
                <a:latin typeface="Calibri"/>
              </a:rPr>
              <a:t>commentaire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de chaque diaposi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054D0-47D4-465F-B100-CA0232B783E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Approche pédagogiq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ette séquence doit 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motiver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chaque stagiaire et lui montrer l’importance de son implication (quel qu’en soit le niveau) dans le réseau des dénombre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our cela, le formateur doit amener chaque stagiaire (futur compteur et/ou organisateur et/ou coordinateur des dénombrements) à prendre conscience de sa place dans le réseau et de l’utilité de son travail en tant que maillon de la chaîne formant le résea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e rôle du formateur sera de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avoriser la réflexion des stagiaires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avoriser l’échange d’idées et la complémentarité entre stagiaires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orienter les stagiaires pour les laisser découvrir et structurer eux-mêmes l’ensemble des connaissances à acquéri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Compétences du formateur mises en œuv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bonne connaissance des réseaux nationaux et internationaux de dénombrements d’oiseaux d’eau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bonne connaissance des conventions/accords/organismes internationau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0F29E-E508-46DA-8294-B94D16307E0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Exercice en sal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Calibri"/>
              </a:rPr>
              <a:t>Matériel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: grandes feuilles de papier (paperboard), marque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Calibri"/>
              </a:rPr>
              <a:t>Déroulement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: groupe de 2 à 4 personn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haque groupe cherche des réponses à la question </a:t>
            </a:r>
            <a:r>
              <a:rPr b="1" i="1" lang="fr-FR" sz="1200" spc="-1" strike="noStrike">
                <a:solidFill>
                  <a:srgbClr val="000000"/>
                </a:solidFill>
                <a:latin typeface="Calibri"/>
              </a:rPr>
              <a:t>“à quoi servent les dénombrements d’oiseaux d’eau ?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haque groupe liste les réponses sur la feuille en structurant à différents niveaux : local (site), national, international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haque groupe présente ses réponses aux autres groupes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une 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liste commune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st élaborée en compilant et synthétisant les différents résulta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Calibri"/>
              </a:rPr>
              <a:t>Rôle du formateur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ider à la réflexion et à la synthèse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istribuer 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à la fin de l’exercice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e document Doc S4.1 “A quoi servent les dénombrements d’oiseaux d’eau : principaux éléments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D15E1-33F8-4E6B-8592-40925415F5A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près avoir distribué le document Doc S4.1 “A quoi servent les dénombrements d’oiseaux d’eau : principaux éléments”, le formateur commentera chaque rubriqu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4A3D3-4322-4862-B2BF-C1787222401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près avoir distribué le document Doc S4.1 “A quoi servent les dénombrements d’oiseaux d’eau : principaux éléments”, le formateur commentera chaque rubriqu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6B312-EED8-463F-9ADC-5628CDEA3A9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près avoir distribué le document Doc S4.1 “A quoi servent les dénombrements d’oiseaux d’eau : principaux éléments”, le formateur commentera chaque rubriqu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DBD1F-419D-46FF-9798-079B9BED1C8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près avoir distribué le document Doc S4.1 “A quoi servent les dénombrements d’oiseaux d’eau : principaux éléments”, le formateur commentera chaque rubriqu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4AC02-1793-4F52-AE7C-A7AF43FE9CA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10A9-4920-462B-A935-8241BB4B2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B70F-891B-46E7-9AC1-3CE2E29CE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FC6B-590B-415F-8F60-3DB43B2AA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B7E2-BD2B-481F-9F95-047273334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D845C-A9FA-4CAF-93D0-E6CA9E4A5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CA8EA-D8CE-4722-825E-399631BE1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8EC18-2C29-4DBD-95D6-57955AE68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AB1A9-FA40-4967-A7E6-7650B6FF2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D217E-926C-4EED-A6F0-FA6E5BF9F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76F6F-E7AA-4AF8-B72D-54AD5DBC9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E935B-180B-4819-A5EC-C9526814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3020-EFFC-407E-8AAB-0B6FF6256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8BFEC-1DD9-4B8C-8DC2-30EAF723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22EEB-095B-468F-9CF7-3AB18130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D848E-F5AF-4864-8885-F5C301A3D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B7856-1173-4579-8E3C-EDF48FFFF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5D605-662F-4BCA-BA4F-0C2BF5573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A287-C06D-472E-8C97-4FB4B4253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E5D3-B186-4DFC-9AC9-845E37F26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A4E3-2A6D-4142-8F22-AEAAAF4B5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DDC8-8DFC-4610-9BE5-F16EE498B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5D91-D1CB-455D-9514-11BA02F1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2A58-3B3E-49A1-8513-0991194F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A401-454D-481A-9E5F-CB3084E5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EF7A-3BFC-4C89-9215-11F7C32A0621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C0015-5EBB-46FA-AB7D-50BB7BF251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e 7"/>
          <p:cNvGrpSpPr/>
          <p:nvPr/>
        </p:nvGrpSpPr>
        <p:grpSpPr>
          <a:xfrm>
            <a:off x="0" y="0"/>
            <a:ext cx="9144000" cy="417600"/>
            <a:chOff x="0" y="0"/>
            <a:chExt cx="9144000" cy="417600"/>
          </a:xfrm>
        </p:grpSpPr>
        <p:sp>
          <p:nvSpPr>
            <p:cNvPr id="42" name="Titre 1"/>
            <p:cNvSpPr/>
            <p:nvPr/>
          </p:nvSpPr>
          <p:spPr>
            <a:xfrm>
              <a:off x="0" y="0"/>
              <a:ext cx="822960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33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1f497d"/>
                  </a:solidFill>
                  <a:latin typeface="Arial Black"/>
                </a:rPr>
                <a:t>Séquence 4</a:t>
              </a:r>
              <a:r>
                <a:rPr b="0" lang="fr-FR" sz="1600" spc="-1" strike="noStrike">
                  <a:solidFill>
                    <a:srgbClr val="1f497d"/>
                  </a:solidFill>
                  <a:latin typeface="Calibri"/>
                </a:rPr>
                <a:t> </a:t>
              </a:r>
              <a:r>
                <a:rPr b="0" lang="fr-FR" sz="2000" spc="-1" strike="noStrike">
                  <a:solidFill>
                    <a:srgbClr val="1f497d"/>
                  </a:solidFill>
                  <a:latin typeface="Calibri"/>
                </a:rPr>
                <a:t>– Dénombrer les oiseaux d’eau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Connecteur droit 8"/>
            <p:cNvSpPr/>
            <p:nvPr/>
          </p:nvSpPr>
          <p:spPr>
            <a:xfrm>
              <a:off x="0" y="405000"/>
              <a:ext cx="9144000" cy="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5A21E-3B0D-428A-ACBC-C5B4A2B7F084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4313A-BD74-4A0E-B6E8-3332A03129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nat.hecker@yahoo.fr" TargetMode="External"/><Relationship Id="rId2" Type="http://schemas.openxmlformats.org/officeDocument/2006/relationships/hyperlink" Target="mailto:sgarvie@aol.com" TargetMode="External"/><Relationship Id="rId3" Type="http://schemas.openxmlformats.org/officeDocument/2006/relationships/hyperlink" Target="http://www.pbase.com/rainbirder" TargetMode="External"/><Relationship Id="rId4" Type="http://schemas.openxmlformats.org/officeDocument/2006/relationships/hyperlink" Target="mailto:girardcyril3335@neuf.fr" TargetMode="External"/><Relationship Id="rId5" Type="http://schemas.openxmlformats.org/officeDocument/2006/relationships/hyperlink" Target="http://www.cyrilgirard.fr/" TargetMode="Externa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5640" y="184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1f497d"/>
                </a:solidFill>
                <a:latin typeface="Arial Black"/>
              </a:rPr>
              <a:t>– </a:t>
            </a:r>
            <a:r>
              <a:rPr b="1" lang="fr-FR" sz="2800" spc="-1" strike="noStrike">
                <a:solidFill>
                  <a:srgbClr val="1f497d"/>
                </a:solidFill>
                <a:latin typeface="Arial Black"/>
              </a:rPr>
              <a:t>Séquence 4 – </a:t>
            </a:r>
            <a:br>
              <a:rPr sz="2800"/>
            </a:br>
            <a:r>
              <a:rPr b="1" lang="fr-FR" sz="2800" spc="-1" strike="noStrike">
                <a:solidFill>
                  <a:srgbClr val="1f497d"/>
                </a:solidFill>
                <a:latin typeface="Arial Black"/>
              </a:rPr>
              <a:t>Pourquoi dénombrer les oiseaux d’eau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50920" y="333000"/>
            <a:ext cx="864216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898989"/>
                </a:solidFill>
                <a:latin typeface="Calibri"/>
              </a:rPr>
              <a:t>Identification et comptage des oiseaux d’eau en Afriq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04C52-C1D1-4A7E-9BC3-6C9F4CE47A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0" descr="vol d'oiseaux lght"/>
          <p:cNvPicPr/>
          <p:nvPr/>
        </p:nvPicPr>
        <p:blipFill>
          <a:blip r:embed="rId1"/>
          <a:stretch/>
        </p:blipFill>
        <p:spPr>
          <a:xfrm>
            <a:off x="684360" y="3068640"/>
            <a:ext cx="790560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97d"/>
                </a:solidFill>
                <a:latin typeface="Arial Black"/>
              </a:rPr>
              <a:t>Pourquoi dénombrer les oiseaux d’eau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50920" y="126828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8480" indent="-3484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Documents uti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8480" indent="-3484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000000"/>
                </a:solidFill>
                <a:latin typeface="Calibri"/>
              </a:rPr>
              <a:t>Rapports nationaux et internationaux des résultats des dénombrem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8480" indent="-3484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n Atlas of Wader Populations in Africa and Western Eurasi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2009. Wetlands International – Wader Study Group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8480" indent="-3484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Waterbird Population Estimates. 2006. </a:t>
            </a:r>
            <a:r>
              <a:rPr b="0" i="1" lang="fr-FR" sz="2200" spc="-1" strike="noStrike">
                <a:solidFill>
                  <a:srgbClr val="000000"/>
                </a:solidFill>
                <a:latin typeface="Calibri"/>
              </a:rPr>
              <a:t>Wetlands Internationa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8480" indent="-3484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000000"/>
                </a:solidFill>
                <a:latin typeface="Calibri"/>
              </a:rPr>
              <a:t>Wings over Wetlands 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8480" indent="-348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fr-F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fr-FR" sz="2200" spc="-1" strike="noStrike">
                <a:solidFill>
                  <a:srgbClr val="000000"/>
                </a:solidFill>
                <a:latin typeface="Calibri"/>
              </a:rPr>
              <a:t>Les Concepts de Voies de Migration pour la conservation et l’utilisation rationnelle des oiseaux d’eau et des zones humides :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Kit de formation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010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8480" indent="-348480" algn="just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itical Site Network Too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8480" indent="-348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000000"/>
                </a:solidFill>
                <a:latin typeface="Calibri"/>
              </a:rPr>
              <a:t>Et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8480" indent="-348480" algn="just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8480" indent="-348480" algn="just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25151-E006-4A7B-B7D1-C9231B0F16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6ab94"/>
            </a:gs>
          </a:gsLst>
          <a:lin ang="7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0" y="1511280"/>
            <a:ext cx="9144000" cy="49420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97d"/>
                </a:solidFill>
                <a:latin typeface="Arial Black"/>
              </a:rPr>
              <a:t>Pourquoi dénombrer les oiseaux d’eau ?</a:t>
            </a:r>
            <a:br>
              <a:rPr sz="2800"/>
            </a:b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A quoi servent les dénombrements 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830560" y="5444640"/>
            <a:ext cx="331308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-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Le réseau est formé d’une suite de maill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40" indent="-32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3405B-D4A9-47C6-B802-A4E83F4C3B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1f497d"/>
                </a:solidFill>
                <a:latin typeface="Arial Black"/>
              </a:rPr>
              <a:t>Comment dénombrer les oiseaux d’eau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-32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0" indent="-32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avoir dénombrer les oiseaux d’eau, c’est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0" indent="-32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avoir quand </a:t>
            </a:r>
            <a:r>
              <a:rPr b="1" lang="fr-FR" sz="2800" spc="-1" strike="noStrike">
                <a:solidFill>
                  <a:srgbClr val="ff6600"/>
                </a:solidFill>
                <a:latin typeface="Calibri"/>
              </a:rPr>
              <a:t>compter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et quand </a:t>
            </a:r>
            <a:r>
              <a:rPr b="1" lang="fr-FR" sz="2800" spc="-1" strike="noStrike">
                <a:solidFill>
                  <a:srgbClr val="ff6600"/>
                </a:solidFill>
                <a:latin typeface="Calibri"/>
              </a:rPr>
              <a:t>estim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0" indent="-32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avoir 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compter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les individus d’un petit grou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0" indent="-32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avoir 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estimer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un groupe importa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FFB6D-AC60-43E5-9DFE-133996E60B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8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-3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BA077-6409-41BA-A207-676AA79A62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C:\Users\Lutz\Desktop\NAH docs\NAH Toshiba après mais 2008\Travail 2009-2010\Malette formation ONCFS\Malette 2011\Séq 4 2011\Séq 4 photos\94028139.afCIljfJ.GreyPloverinflight.jpg"/>
          <p:cNvPicPr/>
          <p:nvPr/>
        </p:nvPicPr>
        <p:blipFill>
          <a:blip r:embed="rId1"/>
          <a:stretch/>
        </p:blipFill>
        <p:spPr>
          <a:xfrm>
            <a:off x="-504720" y="0"/>
            <a:ext cx="964872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ZoneTexte 5"/>
          <p:cNvSpPr/>
          <p:nvPr/>
        </p:nvSpPr>
        <p:spPr>
          <a:xfrm>
            <a:off x="430560" y="5805360"/>
            <a:ext cx="396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cd5b5"/>
                </a:solidFill>
                <a:latin typeface="Calibri"/>
              </a:rPr>
              <a:t>Merci de votre attention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D8643-24C1-4EFA-A64F-B8AC541B8D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e 8"/>
          <p:cNvGrpSpPr/>
          <p:nvPr/>
        </p:nvGrpSpPr>
        <p:grpSpPr>
          <a:xfrm>
            <a:off x="324000" y="1052640"/>
            <a:ext cx="8496000" cy="5400720"/>
            <a:chOff x="324000" y="1052640"/>
            <a:chExt cx="8496000" cy="5400720"/>
          </a:xfrm>
        </p:grpSpPr>
        <p:sp>
          <p:nvSpPr>
            <p:cNvPr id="98" name="Espace réservé du contenu 2"/>
            <p:cNvSpPr/>
            <p:nvPr/>
          </p:nvSpPr>
          <p:spPr>
            <a:xfrm>
              <a:off x="324000" y="1052640"/>
              <a:ext cx="8496000" cy="540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240" indent="-324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 Black"/>
                </a:rPr>
                <a:t>Auteur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240" indent="-324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240" indent="-3240" algn="just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Calibri"/>
                </a:rPr>
                <a:t>Révision /conception 2012 </a:t>
              </a:r>
              <a:r>
                <a:rPr b="0" lang="fr-FR" sz="2000" spc="-1" strike="noStrike">
                  <a:solidFill>
                    <a:srgbClr val="000000"/>
                  </a:solidFill>
                  <a:latin typeface="Calibri"/>
                </a:rPr>
                <a:t>: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240" indent="-324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Calibri"/>
                </a:rPr>
                <a:t>Nathalie Hecker </a:t>
              </a:r>
              <a:r>
                <a:rPr b="0" lang="fr-FR" sz="2000" spc="-1" strike="noStrike" u="sng">
                  <a:solidFill>
                    <a:srgbClr val="0000ff"/>
                  </a:solidFill>
                  <a:uFillTx/>
                  <a:latin typeface="Calibri"/>
                  <a:hlinkClick r:id="rId1"/>
                </a:rPr>
                <a:t>nat.hecker@yahoo.f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240" indent="-3240" algn="just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Calibri"/>
                </a:rPr>
                <a:t>Conception/rédaction 2001 </a:t>
              </a:r>
              <a:r>
                <a:rPr b="0" lang="fr-FR" sz="2000" spc="-1" strike="noStrike">
                  <a:solidFill>
                    <a:srgbClr val="000000"/>
                  </a:solidFill>
                  <a:latin typeface="Calibri"/>
                </a:rPr>
                <a:t>: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240" indent="-324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Calibri"/>
                </a:rPr>
                <a:t>Nathalie Hecker &amp; Marc Lutz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240" indent="-3240" algn="just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Calibri"/>
                </a:rPr>
                <a:t>Photographies</a:t>
              </a:r>
              <a:r>
                <a:rPr b="0" lang="fr-FR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240" indent="-3240" algn="just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Calibri"/>
                </a:rPr>
                <a:t>Steve Garvie </a:t>
              </a:r>
              <a:r>
                <a:rPr b="0" lang="fr-FR" sz="2000" spc="-1" strike="noStrike" u="sng">
                  <a:solidFill>
                    <a:srgbClr val="0000ff"/>
                  </a:solidFill>
                  <a:uFillTx/>
                  <a:latin typeface="Calibri"/>
                  <a:hlinkClick r:id="rId2"/>
                </a:rPr>
                <a:t>sgarvie@aol.com</a:t>
              </a:r>
              <a:r>
                <a:rPr b="0" lang="fr-FR" sz="2000" spc="-1" strike="noStrike">
                  <a:solidFill>
                    <a:srgbClr val="000000"/>
                  </a:solidFill>
                  <a:latin typeface="Calibri"/>
                </a:rPr>
                <a:t>, </a:t>
              </a:r>
              <a:r>
                <a:rPr b="0" lang="fr-FR" sz="2000" spc="-1" strike="noStrike" u="sng">
                  <a:solidFill>
                    <a:srgbClr val="0000ff"/>
                  </a:solidFill>
                  <a:uFillTx/>
                  <a:latin typeface="Calibri"/>
                  <a:hlinkClick r:id="rId3"/>
                </a:rPr>
                <a:t>www.pbase.com/rainbird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240" indent="-3240" algn="just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Calibri"/>
                </a:rPr>
                <a:t>Illustr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240" indent="-3240" algn="just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Calibri"/>
                </a:rPr>
                <a:t>Cyril Girard </a:t>
              </a:r>
              <a:r>
                <a:rPr b="0" lang="fr-FR" sz="2000" spc="-1" strike="noStrike" u="sng">
                  <a:solidFill>
                    <a:srgbClr val="0000ff"/>
                  </a:solidFill>
                  <a:uFillTx/>
                  <a:latin typeface="Calibri"/>
                  <a:hlinkClick r:id="rId4"/>
                </a:rPr>
                <a:t>girardcyril3335@neuf.fr</a:t>
              </a:r>
              <a:r>
                <a:rPr b="0" lang="fr-FR" sz="2000" spc="-1" strike="noStrike">
                  <a:solidFill>
                    <a:srgbClr val="000000"/>
                  </a:solidFill>
                  <a:latin typeface="Calibri"/>
                </a:rPr>
                <a:t>, </a:t>
              </a:r>
              <a:r>
                <a:rPr b="0" lang="fr-FR" sz="2000" spc="-1" strike="noStrike" u="sng">
                  <a:solidFill>
                    <a:srgbClr val="0000ff"/>
                  </a:solidFill>
                  <a:uFillTx/>
                  <a:latin typeface="Calibri"/>
                  <a:hlinkClick r:id="rId5"/>
                </a:rPr>
                <a:t>www.cyrilgirard.f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240" indent="-3240" algn="just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240" indent="-324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Cette séquence est extraite de : Hecker N., 2012. </a:t>
              </a:r>
              <a:r>
                <a:rPr b="0" i="1" lang="fr-FR" sz="1800" spc="-1" strike="noStrike">
                  <a:solidFill>
                    <a:srgbClr val="000000"/>
                  </a:solidFill>
                  <a:latin typeface="Arial"/>
                </a:rPr>
                <a:t>Identification et comptage des oiseaux d’eau en Afrique – Des outils pour le formateur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. ONCFS, Hirundo-FT2E. Fra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240" indent="-3240" algn="just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240" indent="-3240" algn="just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Image 5" descr="cc88x31.png"/>
            <p:cNvPicPr/>
            <p:nvPr/>
          </p:nvPicPr>
          <p:blipFill>
            <a:blip r:embed="rId6"/>
            <a:stretch/>
          </p:blipFill>
          <p:spPr>
            <a:xfrm>
              <a:off x="6516360" y="1268640"/>
              <a:ext cx="1872000" cy="608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97d"/>
                </a:solidFill>
                <a:latin typeface="Arial Black"/>
              </a:rPr>
              <a:t>Présentation de la séqu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24000" y="1341000"/>
            <a:ext cx="273528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-32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6600"/>
                </a:solidFill>
                <a:latin typeface="Calibri"/>
              </a:rPr>
              <a:t>des explications techn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Espace réservé du contenu 2"/>
          <p:cNvSpPr/>
          <p:nvPr/>
        </p:nvSpPr>
        <p:spPr>
          <a:xfrm>
            <a:off x="5219640" y="1989000"/>
            <a:ext cx="2530440" cy="12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40" indent="-32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6600"/>
                </a:solidFill>
                <a:latin typeface="Calibri"/>
              </a:rPr>
              <a:t>des exercices en sa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Espace réservé du numéro de diapositive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F6C78-782C-49DF-A418-8BF793CF3F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3913200" cy="2935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5" name="Picture 3" descr=""/>
          <p:cNvPicPr/>
          <p:nvPr/>
        </p:nvPicPr>
        <p:blipFill>
          <a:blip r:embed="rId2"/>
          <a:stretch/>
        </p:blipFill>
        <p:spPr>
          <a:xfrm>
            <a:off x="4932360" y="3213000"/>
            <a:ext cx="3624120" cy="2719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97d"/>
                </a:solidFill>
                <a:latin typeface="Arial Black"/>
              </a:rPr>
              <a:t>Pourquoi dénombrer les oiseaux d’eau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-32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Objectifs pédagogiques de la séqu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0" indent="-32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 l’issue de cette séquence, vous saurez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0" indent="-32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xpliquer les utilisations des résultats des dénombrements à trois niveaux : site, national, internatio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0" indent="-32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écrire le fonctionnement et le rôle des réseaux nationaux et internationau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0" indent="-32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ituer leur propre activité dans ces réseau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3E981-705E-44FF-809B-FF3FFE5C28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6ab94"/>
            </a:gs>
          </a:gsLst>
          <a:lin ang="7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97d"/>
                </a:solidFill>
                <a:latin typeface="Arial Black"/>
              </a:rPr>
              <a:t>Pourquoi dénombrer les oiseaux d’eau ?</a:t>
            </a:r>
            <a:br>
              <a:rPr sz="2800"/>
            </a:b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A quoi servent les dénombrements 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-32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Exercice en sal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40" indent="-32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Calibri"/>
              </a:rPr>
              <a:t>Matériel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: grandes feuilles de papier, marqueu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40" indent="-32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Calibri"/>
              </a:rPr>
              <a:t>Déroulement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: groupe de 2 à 4 person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40" indent="-324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haque groupe cherche des réponses à la question </a:t>
            </a: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“à quoi servent les dénombrements d’oiseaux d’eau ?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40" indent="-324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haque groupe liste les réponses sur la feuille en structurant à différents niveaux : local (site), national, internat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40" indent="-324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haque groupe présente ses réponses aux autres group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40" indent="-324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Une liste commune est élaborée en compilant et synthétisant les différents résulta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59F1A-A0C3-4859-ABDB-DBE113A8D2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97d"/>
                </a:solidFill>
                <a:latin typeface="Arial Black"/>
              </a:rPr>
              <a:t>Pourquoi dénombrer les oiseaux d’eau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50920" y="126828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-324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Niveau du site : Évaluer l’importance du si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40" indent="-32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nnaître les effectifs des différentes espèces d’oiseaux d’eau sur un si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40" indent="-32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nnaître les capacités d’accueil du site (et leurs fluctuations) pour les différentes espèces d’oiseaux d’ea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40" indent="-32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mparer les résultats des dénombrements sur différents sites de la région ou du pays et déterminer l’importance relative de chaque zone humide pour les oiseaux d’ea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40" indent="-32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éterminer des priorités dans les actions en faveur des espèces prioritai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C00E0-F5F7-4CC7-BCA0-F1F1BEF3DE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97d"/>
                </a:solidFill>
                <a:latin typeface="Arial Black"/>
              </a:rPr>
              <a:t>Pourquoi dénombrer les oiseaux d’eau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50920" y="126828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-32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Niveau du site : Assurer le suivi du si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40" indent="-32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étecter des variations dans l’abondance des oiseaux ou de leur composition spécif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40" indent="-32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ider à identifier les causes de ces changements afin de mettre en place des mesures de conservation si nécessai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40" indent="-32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Évaluer l’impact de certaines activité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40" indent="-32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Vérifier régulièrement si l’utilisation (et/ou la gestion) de la zone humide et de ses ressources naturelles est rationnelle et dur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ABA6A-E4DB-4C58-93C5-3E0BE44F31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97d"/>
                </a:solidFill>
                <a:latin typeface="Arial Black"/>
              </a:rPr>
              <a:t>Pourquoi dénombrer les oiseaux d’eau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50920" y="126828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-324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Niveau nat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40" indent="-32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nnaître le rôle et l’importance des zones humides du pays pour les différentes espèces d’oiseaux d’eau au cours de leur cycle annu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40" indent="-32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Fournir des informations pour la mise en place d’actions de conservation et de mesures en faveur de l’utilisation durable des ressources naturel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40" indent="-32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Fournir des informations pour la législation de protection de la nature et la politique nationale de conservation des zones humi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40" indent="-32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Fournir des informations pour la réalisation de synthèses des connaiss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6B54B-9B7A-4D63-AADA-8C7662B1D8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97d"/>
                </a:solidFill>
                <a:latin typeface="Arial Black"/>
              </a:rPr>
              <a:t>Pourquoi dénombrer les oiseaux d’eau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50920" y="126828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-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Niveau internat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40" indent="-32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Renforcer les connaissances sur les espèces dans leur aire de répartition et suivre l’évolution de certains paramèt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40" indent="-32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Renforcer les informations nécessaires aux conventions et accords internationaux, et à l’élaboration de documents stratégiq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40" indent="-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40" indent="-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A tous les niveau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40" indent="-3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Renforcer les connaissances de la biologie des espè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40" indent="-3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4F710-9DEE-49E2-8A96-F22A804DC0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8T06:49:46Z</dcterms:created>
  <dc:creator>NAH</dc:creator>
  <dc:description/>
  <dc:language>en-US</dc:language>
  <cp:lastModifiedBy>NAH</cp:lastModifiedBy>
  <dcterms:modified xsi:type="dcterms:W3CDTF">2012-04-22T13:38:43Z</dcterms:modified>
  <cp:revision>294</cp:revision>
  <dc:subject/>
  <dc:title>Séquence 4 Comment dénombrer les oiseaux</dc:title>
</cp:coreProperties>
</file>